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4B6B-BB47-406D-B3D2-7CF87432E6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505C-F0C1-46B9-A040-9A898BA64110}"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71B6-A5D7-43C2-BC1C-BB06D322E998}"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8D25-412E-4DFF-974C-FDDDF61966B9}"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C26F4-0160-499C-AD15-B93980575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33CBA-9564-42D6-8C72-6315A1F0A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99AC0-F021-42EF-892D-56A288BD2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F2381-01E6-4D06-B702-29D7B3418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CE7A1-CDDC-4855-B6AE-4390135F5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9FA7C-1CA1-4067-823A-3F90BD0AE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36F6F-F90E-423A-A13E-DECDDF0F7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9C037-C9EC-4858-9BED-33D55086D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F730E-9748-47D5-B161-A2E22C640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B6200-1B33-4547-8E68-A0CCDC665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E632D-CB0F-4B37-A219-1D58B93B5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E68B4-9085-4572-BFC6-4AE0306E4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2FA16-E97B-465D-AB33-987F2C330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3BA2A-D05E-43BF-A935-AAF551251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D4801-964F-4B3A-B041-97EBCD4D0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C94CE2-0F1F-48C9-9EB2-F2056FA36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ACE32-11D2-4DDE-916D-7DD78BFED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3AF571-06CA-40BE-8AC7-0BF1936A3F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3FE94B-A9EE-4F6E-BB3E-F19E3D08EF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40974E-7C6E-4955-8E5E-0D1F9AE2C3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729A8-EC09-4E80-BCC2-2F5F487E14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AD5AE3-F68D-4918-BBE0-59A59913E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DAFB4-235D-4C76-ADDB-D92D45013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BE09D1-D856-4911-89A7-059A21F2F3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87CB93-41DE-457A-B4E8-2A908C7A1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4C8630-8A72-4C32-A006-5C0CAF443C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DFF6C8-DCDF-4AFD-9AF1-E401995CBB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6CB21D-F11E-47EC-BE4B-7EFF916FEE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FDB25B-B995-4427-98A6-8469C95441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FEF9C5-162E-4BCD-85F3-9D874C1B19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1EAC39-DEBB-4709-92F7-ED637F404B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2BE686-58D8-42AE-B071-49E4212960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A58714-13D6-42F4-AC68-8B4324EFA6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559A7-C1EE-4323-BA7E-0A3998A26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F6334A-828A-4FDF-B57C-7102FB058C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BE32AA-1B88-46DC-A846-BCEA8D11CB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961F1A-4B57-44F7-B64F-04723416C5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E7B81-AAC4-4AE9-81DE-BF7BF4118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A11FA2-1659-4FF8-ACCB-C800C68913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C1A434-A4DC-44C2-AC38-6A04A307D5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6DBF12-DD80-4BA3-B50E-B39906CA03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0F5EF3-C80D-456D-8D71-F611C0C599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24DFBC-E9E7-4EB4-9432-66FC92791B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F0FDD-1E99-41BA-86D7-4FD21994A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F8D87-C1F5-417D-91D2-CBBCD3084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F9391-62A1-462A-A92C-6FFAB2F9F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AFCF5-9CF7-42E4-8AF3-CE37170AE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BB101-91D7-43BB-AF8D-FC446BA0A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83CC-BE1C-4CE0-BD1B-15CA48621D53}"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FF9A-347A-42EF-8344-343745EF65E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3024-2BF2-446A-8601-C99EA0E99E4B}"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EA24-DAEA-490C-9F1E-68F18F424E3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69FC-3B31-4803-B130-488CE14F2015}" type="datetime">
              <a:rPr b="0" lang="en-US" sz="1200" spc="-1" strike="noStrike">
                <a:solidFill>
                  <a:srgbClr val="d1eaee"/>
                </a:solidFill>
                <a:latin typeface="Times New Roman"/>
              </a:rPr>
              <a:t>07/3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1E21-6D1A-474E-90A5-92131AEDB29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9402-7705-44C0-9E52-D2C9A6A949B5}" type="datetime">
              <a:rPr b="0" lang="en-US" sz="1200" spc="-1" strike="noStrike">
                <a:solidFill>
                  <a:srgbClr val="045c75"/>
                </a:solidFill>
                <a:latin typeface="Times New Roman"/>
              </a:rPr>
              <a:t>07/3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0582-39F9-4F44-BB4E-CB2878A8AD0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2"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L7PxH0-eT_0"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pple.com/" TargetMode="External"/><Relationship Id="rId2" Type="http://schemas.openxmlformats.org/officeDocument/2006/relationships/hyperlink" Target="http://www.gmcanada.com/" TargetMode="External"/><Relationship Id="rId3" Type="http://schemas.openxmlformats.org/officeDocument/2006/relationships/hyperlink" Target="http://www.bombardier.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illey.com/"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ondacars.com/info/prototypes/sut.asp?bhcp=1" TargetMode="External"/><Relationship Id="rId2" Type="http://schemas.openxmlformats.org/officeDocument/2006/relationships/hyperlink" Target="http://www.hondacars.com/info/prototypes/sut.asp?bhcp=1" TargetMode="External"/><Relationship Id="rId3" Type="http://schemas.openxmlformats.org/officeDocument/2006/relationships/hyperlink" Target="http://www.facebook.com/"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689040" y="1792440"/>
            <a:ext cx="7778520" cy="14317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R2100</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arketing 2</a:t>
            </a:r>
            <a:endParaRPr b="0" lang="en-US" sz="2600" spc="-1" strike="noStrike">
              <a:solidFill>
                <a:srgbClr val="ffffff"/>
              </a:solidFill>
              <a:latin typeface="Constantia"/>
            </a:endParaRPr>
          </a:p>
        </p:txBody>
      </p:sp>
      <p:sp>
        <p:nvSpPr>
          <p:cNvPr id="204" name="Rectangle 20"/>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2AB8-0286-4FED-AC62-714F23DDFD7C}" type="datetime">
              <a:rPr b="0" lang="en-US" sz="1200" spc="-1" strike="noStrike">
                <a:solidFill>
                  <a:srgbClr val="d1eaee"/>
                </a:solidFill>
                <a:latin typeface="Verdana"/>
              </a:rPr>
              <a:t>07/30/26</a:t>
            </a:fld>
            <a:endParaRPr b="0" lang="en-US" sz="1200" spc="-1" strike="noStrike">
              <a:solidFill>
                <a:srgbClr val="000000"/>
              </a:solidFill>
              <a:latin typeface="Verdana"/>
            </a:endParaRPr>
          </a:p>
        </p:txBody>
      </p:sp>
      <p:sp>
        <p:nvSpPr>
          <p:cNvPr id="205" name="Rectangle 21"/>
          <p:cNvSpPr/>
          <p:nvPr/>
        </p:nvSpPr>
        <p:spPr>
          <a:xfrm>
            <a:off x="2666880" y="6324480"/>
            <a:ext cx="3353040" cy="365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Verdana"/>
              </a:rPr>
              <a:t>Prepared by Paul Tilley</a:t>
            </a:r>
            <a:endParaRPr b="0" lang="en-US" sz="1200" spc="-1" strike="noStrike">
              <a:solidFill>
                <a:srgbClr val="000000"/>
              </a:solidFill>
              <a:latin typeface="Verdana"/>
            </a:endParaRPr>
          </a:p>
        </p:txBody>
      </p:sp>
      <p:sp>
        <p:nvSpPr>
          <p:cNvPr id="206" name="Rectangle 2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FFCC-B8C2-4352-9A92-ADDF7ED0F730}"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Hierarchy of New Services </a:t>
            </a:r>
            <a:endParaRPr b="0" lang="en-US" sz="50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ajor Service Innovations - NetFlix</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ajor Process Innovations – Online Cour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ervice – Line Extensions – Banks offer insuran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rocess – Line Extensions – Internet Banking</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upplementary-Service innovations – </a:t>
            </a:r>
            <a:r>
              <a:rPr b="0" lang="en-CA" sz="2000" spc="-1" strike="noStrike">
                <a:solidFill>
                  <a:srgbClr val="000000"/>
                </a:solidFill>
                <a:latin typeface="Constantia"/>
              </a:rPr>
              <a:t>Airlines Seatback TV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asic Service Improvements – </a:t>
            </a:r>
            <a:r>
              <a:rPr b="0" lang="en-CA" sz="2000" spc="-1" strike="noStrike">
                <a:solidFill>
                  <a:srgbClr val="000000"/>
                </a:solidFill>
                <a:latin typeface="Constantia"/>
              </a:rPr>
              <a:t>Airlines Leather seats </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tyle Changes – New Log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837D-CBA7-4A6D-B883-F146DE4EFE73}"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4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14</a:t>
            </a:r>
            <a:endParaRPr b="0" lang="en-US" sz="1200" spc="-1" strike="noStrike">
              <a:solidFill>
                <a:srgbClr val="000000"/>
              </a:solidFill>
              <a:latin typeface="Verdana"/>
            </a:endParaRPr>
          </a:p>
        </p:txBody>
      </p:sp>
      <p:sp>
        <p:nvSpPr>
          <p:cNvPr id="24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70D6-505B-414C-A67F-598D6784B636}"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Why New Products Fail in the Marketplace</a:t>
            </a:r>
            <a:endParaRPr b="0" lang="en-US" sz="45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enough potential buy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 real difference between the new product and existing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product qual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sold in enough pla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timing in introducing the produ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4P’s not well executed. </a:t>
            </a:r>
            <a:endParaRPr b="0" lang="en-US" sz="2600" spc="-1" strike="noStrike">
              <a:solidFill>
                <a:srgbClr val="000000"/>
              </a:solidFill>
              <a:latin typeface="Constantia"/>
            </a:endParaRPr>
          </a:p>
        </p:txBody>
      </p:sp>
      <p:sp>
        <p:nvSpPr>
          <p:cNvPr id="24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73F3-5DBD-497E-ACD2-3A87755F2C53}"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4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6D15F-A0D2-48EE-AF90-BB3C92B3F71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New Products Problems that often lead to Failure in the Marketplace</a:t>
            </a:r>
            <a:endParaRPr b="0" lang="en-US" sz="45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listening to the custom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kipping the steps in the New Produc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o quick to market – wrong product wrong ti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roupthink amongst develop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learning from past mistak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466D-CED8-4DF0-9EA5-4523F694C18D}"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5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D1BA-6A6F-4DFB-90D3-B332D0A4CD58}"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219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he New Product Process</a:t>
            </a:r>
            <a:endParaRPr b="0" lang="en-US" sz="5000" spc="-1" strike="noStrike">
              <a:solidFill>
                <a:srgbClr val="04617b"/>
              </a:solidFill>
              <a:latin typeface="Calibri"/>
            </a:endParaRPr>
          </a:p>
        </p:txBody>
      </p:sp>
      <p:sp>
        <p:nvSpPr>
          <p:cNvPr id="253" name=""/>
          <p:cNvSpPr txBox="1"/>
          <p:nvPr/>
        </p:nvSpPr>
        <p:spPr>
          <a:xfrm>
            <a:off x="685800" y="1295280"/>
            <a:ext cx="7772400" cy="51055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What follows is an outline of the key sequence of steps necessary to help ensure a new products success when it is first introduced to the marketpla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Before anything, a organization must be innovative and seek out new product ideas. (by being both proactive and reactive)  Without this key element, none of of the following steps are relevant. (Six Sigma protocols)</a:t>
            </a:r>
            <a:endParaRPr b="0" lang="en-US" sz="2800" spc="-1" strike="noStrike">
              <a:solidFill>
                <a:srgbClr val="000000"/>
              </a:solidFill>
              <a:latin typeface="Constantia"/>
            </a:endParaRPr>
          </a:p>
        </p:txBody>
      </p:sp>
      <p:sp>
        <p:nvSpPr>
          <p:cNvPr id="25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41EA-E699-41E4-815A-9BEA6D7EB436}"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89ED-8B2B-4B8C-950F-83272A328AB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56" name="Line 4"/>
          <p:cNvSpPr/>
          <p:nvPr/>
        </p:nvSpPr>
        <p:spPr>
          <a:xfrm>
            <a:off x="2286000" y="5867280"/>
            <a:ext cx="4419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1 - Idea Generation</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deas for new products come about in a number of formal and informal ways.  Key sources if ideas come fro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ustom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mployee/Co-Work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ormal Research and Development (R&amp;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nalyzing competitor’s products</a:t>
            </a:r>
            <a:endParaRPr b="0" lang="en-US" sz="24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5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445E-2EB7-47E4-9A41-5912E897084A}"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6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04</a:t>
            </a:r>
            <a:endParaRPr b="0" lang="en-US" sz="1200" spc="-1" strike="noStrike">
              <a:solidFill>
                <a:srgbClr val="000000"/>
              </a:solidFill>
              <a:latin typeface="Verdana"/>
            </a:endParaRPr>
          </a:p>
        </p:txBody>
      </p:sp>
      <p:sp>
        <p:nvSpPr>
          <p:cNvPr id="26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0DD6-BFE1-4261-A989-50479742F1E7}"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62" name="AutoShape 8">
            <a:hlinkClick r:id="rId1"/>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AutoShape 10">
            <a:hlinkClick r:id="rId2"/>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64" name="Picture 14" descr="http://patentlawcenter.pli.edu/wp-content/uploads/2010/12/Idea-Light-Bulb.jpg"/>
          <p:cNvPicPr/>
          <p:nvPr/>
        </p:nvPicPr>
        <p:blipFill>
          <a:blip r:embed="rId3"/>
          <a:stretch/>
        </p:blipFill>
        <p:spPr>
          <a:xfrm>
            <a:off x="6872400" y="4114800"/>
            <a:ext cx="2100240" cy="233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Step 2 - Screening and Evaluation of New Products</a:t>
            </a:r>
            <a:endParaRPr b="0" lang="en-US" sz="45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new ideas have been generated, they must be assessed for their appropriateness and val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assessment can be either: </a:t>
            </a:r>
            <a:r>
              <a:rPr b="0" lang="en-GB" sz="2600" spc="-1" strike="noStrike">
                <a:solidFill>
                  <a:srgbClr val="000000"/>
                </a:solidFill>
                <a:latin typeface="Constantia"/>
              </a:rPr>
              <a:t>	</a:t>
            </a:r>
            <a:r>
              <a:rPr b="0" lang="en-GB" sz="2600" spc="-1" strike="noStrike">
                <a:solidFill>
                  <a:srgbClr val="000000"/>
                </a:solidFill>
                <a:latin typeface="Constantia"/>
              </a:rPr>
              <a:t>	</a:t>
            </a:r>
            <a:r>
              <a:rPr b="0" lang="en-GB" sz="2600" spc="-1" strike="noStrike">
                <a:solidFill>
                  <a:srgbClr val="000000"/>
                </a:solidFill>
                <a:latin typeface="Constantia"/>
              </a:rPr>
              <a:t>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nternal Approach - using a formalized evaluation procedu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xternal Approach - protesting the concept on focus groups &amp; customers</a:t>
            </a:r>
            <a:endParaRPr b="0" lang="en-US" sz="2400" spc="-1" strike="noStrike">
              <a:solidFill>
                <a:srgbClr val="000000"/>
              </a:solidFill>
              <a:latin typeface="Constantia"/>
            </a:endParaRPr>
          </a:p>
        </p:txBody>
      </p:sp>
      <p:sp>
        <p:nvSpPr>
          <p:cNvPr id="26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792A-E4C4-4608-B8EB-F48DBF9040DE}"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B64D-5224-412A-8288-6382D96D43F8}"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3 - Business Analysis</a:t>
            </a: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a product or idea has made it through the initial assessment then an analysis of its financial feasibility is comple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Key concerns at this level is, what features should it have? And considering this can it make money?</a:t>
            </a:r>
            <a:endParaRPr b="0" lang="en-US" sz="2600" spc="-1" strike="noStrike">
              <a:solidFill>
                <a:srgbClr val="000000"/>
              </a:solidFill>
              <a:latin typeface="Constantia"/>
            </a:endParaRPr>
          </a:p>
        </p:txBody>
      </p:sp>
      <p:sp>
        <p:nvSpPr>
          <p:cNvPr id="27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17F2-990D-4B34-8E3F-038E4EDA0BC1}"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7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175A-8167-40BD-9997-1E3C44DB7F16}"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4 - Development</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f a product idea makes it past the business analysis stage then initial development must take pla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usually involves building Prototypes which are then evaluated for their functionality, ease of build and practicality.</a:t>
            </a:r>
            <a:endParaRPr b="0" lang="en-US" sz="2600" spc="-1" strike="noStrike">
              <a:solidFill>
                <a:srgbClr val="000000"/>
              </a:solidFill>
              <a:latin typeface="Constantia"/>
            </a:endParaRPr>
          </a:p>
        </p:txBody>
      </p:sp>
      <p:sp>
        <p:nvSpPr>
          <p:cNvPr id="27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3BC4-A792-4EA4-B7C1-2354D73D46AF}"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6FF8-D116-42D6-ADA6-AE5F83621CB7}"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Product Development in the real World:</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Good: </a:t>
            </a:r>
            <a:r>
              <a:rPr b="0" lang="en-US" sz="2600" spc="-1" strike="noStrike" u="sng">
                <a:solidFill>
                  <a:srgbClr val="e2d700"/>
                </a:solidFill>
                <a:uFillTx/>
                <a:latin typeface="Constantia"/>
                <a:hlinkClick r:id="rId1"/>
              </a:rPr>
              <a:t>Summary of Boeing 7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st Flight The Boeing 787 Dreamli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Bad: Delays and Production Proble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A12F-C301-48DF-BBF0-49405DE4F10B}"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8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3867-C1CA-4F5D-90BC-727FF0DED77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81" name="Picture 7" descr=""/>
          <p:cNvPicPr/>
          <p:nvPr/>
        </p:nvPicPr>
        <p:blipFill>
          <a:blip r:embed="rId2"/>
          <a:stretch/>
        </p:blipFill>
        <p:spPr>
          <a:xfrm>
            <a:off x="1752480" y="3429000"/>
            <a:ext cx="5946840" cy="27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5 - Market Testing</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Once the prototype is built it is market tes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At this stage changes are made based on customer, supplier and manufacturers inpu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Test marketing is a difficult stage because input may not be representative of the overall markets feelings, it is time and money consuming and plans can be revealed to the competition.</a:t>
            </a:r>
            <a:endParaRPr b="0" lang="en-US" sz="2800" spc="-1" strike="noStrike">
              <a:solidFill>
                <a:srgbClr val="000000"/>
              </a:solidFill>
              <a:latin typeface="Constantia"/>
            </a:endParaRPr>
          </a:p>
        </p:txBody>
      </p:sp>
      <p:sp>
        <p:nvSpPr>
          <p:cNvPr id="28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474C-2C8A-4A57-83EB-9DED62C32AA9}"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8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2156-1856-4E91-8A84-BE56B3854E7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This chapter we will:</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Product oriented ter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how to classify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product “new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about the contributing factors to a product’s success and a product’s fail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and learn the steps in the New Product Developmen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5CDD-71A1-4A4B-B968-4D5064057C29}"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1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D4D5-003B-4C9A-A61A-979A1B0D0B8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87" name=""/>
          <p:cNvSpPr txBox="1"/>
          <p:nvPr/>
        </p:nvSpPr>
        <p:spPr>
          <a:xfrm>
            <a:off x="685800" y="1828800"/>
            <a:ext cx="7772400" cy="44956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ce a product has made it through the market testing stage it gets mass produced and sold commercially.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ime and expense getting to this stage is great and cost may be increased when some retailers charge for display space for the product (Slotting fee) . If the product does not sell as well as the product that occupied the shelf space previously the retailer often attempts to recoup the lost revenues in the from of a Failure Fee.</a:t>
            </a:r>
            <a:endParaRPr b="0" lang="en-US" sz="2400" spc="-1" strike="noStrike">
              <a:solidFill>
                <a:srgbClr val="000000"/>
              </a:solidFill>
              <a:latin typeface="Constantia"/>
            </a:endParaRPr>
          </a:p>
        </p:txBody>
      </p:sp>
      <p:sp>
        <p:nvSpPr>
          <p:cNvPr id="28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858B-6257-4F31-9464-DDF40C337F73}"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8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AF25-C285-4F72-B750-7991F96B3B9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91" name=""/>
          <p:cNvSpPr txBox="1"/>
          <p:nvPr/>
        </p:nvSpPr>
        <p:spPr>
          <a:xfrm>
            <a:off x="685800" y="1905120"/>
            <a:ext cx="7772400" cy="44956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e way to speed up the road to commercialization of a complicated product is through Parallel Developmen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ith parallel development key components of the new product are designed, tested and built separately but simultaneously.  Boeing does this by designing and building the new 787 jet liner (www.boeing.com), while at the same time Roll Royce and Pratt &amp; Witney design and build engines for the plane.  Plane and engines are mated at the end of the process.  See the Roll Royce Trent 1000 @  : http://www.youtube.com/watch?v=_AvzoXPEXxk</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5A7F-22FB-4C02-AC92-603C63C95AA8}"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9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F427-130C-477C-AA78-8DB37F05BC6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 Product is...</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goo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serv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r an idea</a:t>
            </a:r>
            <a:endParaRPr b="0" lang="en-US" sz="2600" spc="-1" strike="noStrike">
              <a:solidFill>
                <a:srgbClr val="000000"/>
              </a:solidFill>
              <a:latin typeface="Constantia"/>
            </a:endParaRPr>
          </a:p>
        </p:txBody>
      </p:sp>
      <p:sp>
        <p:nvSpPr>
          <p:cNvPr id="21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742A-E6C8-4E6F-A3B5-A1FA35341F40}"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BE321-A63A-45E0-BCBB-DD54A308110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4617b"/>
                </a:solidFill>
                <a:latin typeface="Calibri"/>
              </a:rPr>
              <a:t>A Product Line vs. A Product Mix</a:t>
            </a:r>
            <a:endParaRPr b="0" lang="en-US" sz="36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Line is a group of products that are closely related e.g.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1"/>
              </a:rPr>
              <a:t>Apple</a:t>
            </a:r>
            <a:r>
              <a:rPr b="0" lang="en-GB" sz="2400" spc="-1" strike="noStrike">
                <a:solidFill>
                  <a:srgbClr val="000000"/>
                </a:solidFill>
                <a:latin typeface="Constantia"/>
              </a:rPr>
              <a:t> has Portable Music players (Ipods), Desktop Computers, Laptop Computers, a Tablet and phones (Iphon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2"/>
              </a:rPr>
              <a:t>General Motors</a:t>
            </a:r>
            <a:r>
              <a:rPr b="0" lang="en-GB" sz="2400" spc="-1" strike="noStrike">
                <a:solidFill>
                  <a:srgbClr val="000000"/>
                </a:solidFill>
                <a:latin typeface="Constantia"/>
              </a:rPr>
              <a:t> has the Chevy, Buick and Cadillac lines of vehicl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Mix is a combination of all of the product lines of a company.  </a:t>
            </a:r>
            <a:r>
              <a:rPr b="0" lang="en-GB" sz="2600" spc="-1" strike="noStrike" u="sng">
                <a:solidFill>
                  <a:srgbClr val="e2d700"/>
                </a:solidFill>
                <a:uFillTx/>
                <a:latin typeface="Constantia"/>
                <a:hlinkClick r:id="rId3"/>
              </a:rPr>
              <a:t>Bombardier</a:t>
            </a:r>
            <a:r>
              <a:rPr b="0" lang="en-GB" sz="2600" spc="-1" strike="noStrike">
                <a:solidFill>
                  <a:srgbClr val="000000"/>
                </a:solidFill>
                <a:latin typeface="Constantia"/>
              </a:rPr>
              <a:t> offers a range of products from airplanes, to trains. </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1255-5BDC-4778-9871-68E58193F22D}"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1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A72A-64D6-4F2C-8842-B2EBD5DA580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Products</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oducts can be classified a number of ways.  Two key ways ar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ype of user. (Consumer or Industri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Degree of tangibility of the product.  (Can you touch it or no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9777-45B5-4E8D-B390-FFE57793D772}"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18DC-CC9A-485F-859E-615F6A95D7D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Consumer Goods</a:t>
            </a:r>
            <a:endParaRPr b="0" lang="en-US" sz="5000" spc="-1" strike="noStrike">
              <a:solidFill>
                <a:srgbClr val="04617b"/>
              </a:solidFill>
              <a:latin typeface="Calibri"/>
            </a:endParaRPr>
          </a:p>
        </p:txBody>
      </p:sp>
      <p:sp>
        <p:nvSpPr>
          <p:cNvPr id="224" name=""/>
          <p:cNvSpPr txBox="1"/>
          <p:nvPr/>
        </p:nvSpPr>
        <p:spPr>
          <a:xfrm>
            <a:off x="685800" y="1828800"/>
            <a:ext cx="7772400" cy="44956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Convenience Goods</a:t>
            </a:r>
            <a:r>
              <a:rPr b="0" lang="en-GB" sz="2000" spc="-1" strike="noStrike">
                <a:solidFill>
                  <a:srgbClr val="000000"/>
                </a:solidFill>
                <a:latin typeface="Constantia"/>
              </a:rPr>
              <a:t> - Goods that are available to the consumer almost everywhere, that are relatively low valued and bought with relatively high frequency - A can of Cok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hopping Goods</a:t>
            </a:r>
            <a:r>
              <a:rPr b="0" lang="en-GB" sz="2000" spc="-1" strike="noStrike">
                <a:solidFill>
                  <a:srgbClr val="000000"/>
                </a:solidFill>
                <a:latin typeface="Constantia"/>
              </a:rPr>
              <a:t> - Goods that must be compared with other goods.  Usually higher priced, higher risk goods - Cloth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peciality Goods</a:t>
            </a:r>
            <a:r>
              <a:rPr b="0" lang="en-GB" sz="2000" spc="-1" strike="noStrike">
                <a:solidFill>
                  <a:srgbClr val="000000"/>
                </a:solidFill>
                <a:latin typeface="Constantia"/>
              </a:rPr>
              <a:t> - Goods that are unique, special and available in limited locations. Usually high priced prestigious goods - </a:t>
            </a:r>
            <a:r>
              <a:rPr b="0" lang="en-GB" sz="2000" spc="-1" strike="noStrike" u="sng">
                <a:solidFill>
                  <a:srgbClr val="e2d700"/>
                </a:solidFill>
                <a:uFillTx/>
                <a:latin typeface="Constantia"/>
                <a:hlinkClick r:id="rId1"/>
              </a:rPr>
              <a:t>Tilley Ha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Unsought Goods</a:t>
            </a:r>
            <a:r>
              <a:rPr b="0" lang="en-GB" sz="2000" spc="-1" strike="noStrike">
                <a:solidFill>
                  <a:srgbClr val="000000"/>
                </a:solidFill>
                <a:latin typeface="Constantia"/>
              </a:rPr>
              <a:t> - Goods that you had no intention on buying but bought anyway.  Tend to be lower priced -  All stores that surround mall food courts tend to sell “unsought” items.</a:t>
            </a:r>
            <a:endParaRPr b="0" lang="en-US" sz="2000" spc="-1" strike="noStrike">
              <a:solidFill>
                <a:srgbClr val="000000"/>
              </a:solidFill>
              <a:latin typeface="Constantia"/>
            </a:endParaRPr>
          </a:p>
        </p:txBody>
      </p:sp>
      <p:sp>
        <p:nvSpPr>
          <p:cNvPr id="22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A784-5AB8-4A50-A9A0-3D256DD932D5}"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0502-751A-4716-BDE1-B50E69A4FFF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Industrial Goods</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Production Goods</a:t>
            </a:r>
            <a:r>
              <a:rPr b="0" lang="en-GB" sz="2600" spc="-1" strike="noStrike">
                <a:solidFill>
                  <a:srgbClr val="000000"/>
                </a:solidFill>
                <a:latin typeface="Constantia"/>
              </a:rPr>
              <a:t> - Raw materials used in the production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Support Goods</a:t>
            </a:r>
            <a:r>
              <a:rPr b="0" lang="en-GB" sz="2600" spc="-1" strike="noStrike">
                <a:solidFill>
                  <a:srgbClr val="000000"/>
                </a:solidFill>
                <a:latin typeface="Constantia"/>
              </a:rPr>
              <a:t> - Supplies and services key to but not used directly in the production process:</a:t>
            </a:r>
            <a:endParaRPr b="0" lang="en-US" sz="26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Installations - factori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ccessory Equipment - tools and office equipment</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upplies - Paper</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ervices - Legal &amp; tax</a:t>
            </a:r>
            <a:endParaRPr b="0" lang="en-US" sz="1800" spc="-1" strike="noStrike">
              <a:solidFill>
                <a:srgbClr val="000000"/>
              </a:solidFill>
              <a:latin typeface="Constantia"/>
            </a:endParaRPr>
          </a:p>
        </p:txBody>
      </p:sp>
      <p:sp>
        <p:nvSpPr>
          <p:cNvPr id="2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99CB-8DD1-410E-A1B0-CC0728E12275}"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3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0340-02A1-4138-9902-FB3C369C1888}"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What is a “New” Product?</a:t>
            </a:r>
            <a:endParaRPr b="0" lang="en-US" sz="5000" spc="-1" strike="noStrike">
              <a:solidFill>
                <a:srgbClr val="04617b"/>
              </a:solidFill>
              <a:latin typeface="Calibri"/>
            </a:endParaRPr>
          </a:p>
        </p:txBody>
      </p:sp>
      <p:sp>
        <p:nvSpPr>
          <p:cNvPr id="232" name=""/>
          <p:cNvSpPr txBox="1"/>
          <p:nvPr/>
        </p:nvSpPr>
        <p:spPr>
          <a:xfrm>
            <a:off x="685800" y="1676520"/>
            <a:ext cx="7772400" cy="457200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is considered new if:</a:t>
            </a:r>
            <a:endParaRPr b="0" lang="en-US" sz="26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relative to existing products on the marke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in legal terms ( e.g. it may have been around for years but just patented)</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mpany’s perspective </a:t>
            </a:r>
            <a:r>
              <a:rPr b="0" lang="en-GB" sz="2200" spc="-1" strike="noStrike" u="sng">
                <a:solidFill>
                  <a:srgbClr val="e2d700"/>
                </a:solidFill>
                <a:uFillTx/>
                <a:latin typeface="Constantia"/>
                <a:hlinkClick r:id="rId1"/>
              </a:rPr>
              <a:t>–</a:t>
            </a:r>
            <a:r>
              <a:rPr b="0" lang="en-GB" sz="2200" spc="-1" strike="noStrike">
                <a:solidFill>
                  <a:srgbClr val="000000"/>
                </a:solidFill>
                <a:latin typeface="Constantia"/>
              </a:rPr>
              <a:t> </a:t>
            </a:r>
            <a:r>
              <a:rPr b="0" lang="en-GB" sz="2200" spc="-1" strike="noStrike" u="sng">
                <a:solidFill>
                  <a:srgbClr val="e2d700"/>
                </a:solidFill>
                <a:uFillTx/>
                <a:latin typeface="Constantia"/>
                <a:hlinkClick r:id="rId2"/>
              </a:rPr>
              <a:t>Honda started making pickup  trucks</a:t>
            </a:r>
            <a:r>
              <a:rPr b="0" lang="en-GB" sz="2200" spc="-1" strike="noStrike">
                <a:solidFill>
                  <a:srgbClr val="000000"/>
                </a:solidFill>
                <a:latin typeface="Constantia"/>
              </a:rPr>
              <a:t>, but the pickup truck itself is not a new vehicle concept – It does however constitute 40% of all vehicle sales in North America</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nsumer perspective.  (the product may have existed in some markets for some time but may be new to a given market.  (</a:t>
            </a:r>
            <a:r>
              <a:rPr b="0" lang="en-GB" sz="2200" spc="-1" strike="noStrike" u="sng">
                <a:solidFill>
                  <a:srgbClr val="e2d700"/>
                </a:solidFill>
                <a:uFillTx/>
                <a:latin typeface="Constantia"/>
                <a:hlinkClick r:id="rId3"/>
              </a:rPr>
              <a:t>www.facebook.com</a:t>
            </a:r>
            <a:r>
              <a:rPr b="0" lang="en-GB" sz="2200" spc="-1" strike="noStrike">
                <a:solidFill>
                  <a:srgbClr val="000000"/>
                </a:solidFill>
                <a:latin typeface="Constantia"/>
              </a:rPr>
              <a: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5C8A-376D-43A4-84B1-4E04A0E3FBAC}"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3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3950-256C-43EC-8544-8A3388B6964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880"/>
            <a:ext cx="7772400" cy="17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novation of New Products</a:t>
            </a:r>
            <a:endParaRPr b="0" lang="en-US" sz="5000" spc="-1" strike="noStrike">
              <a:solidFill>
                <a:srgbClr val="04617b"/>
              </a:solidFill>
              <a:latin typeface="Calibri"/>
            </a:endParaRPr>
          </a:p>
        </p:txBody>
      </p:sp>
      <p:sp>
        <p:nvSpPr>
          <p:cNvPr id="236" name=""/>
          <p:cNvSpPr txBox="1"/>
          <p:nvPr/>
        </p:nvSpPr>
        <p:spPr>
          <a:xfrm>
            <a:off x="685800" y="1371240"/>
            <a:ext cx="7772400" cy="4876920"/>
          </a:xfrm>
          <a:prstGeom prst="rect">
            <a:avLst/>
          </a:prstGeom>
          <a:noFill/>
          <a:ln w="0">
            <a:noFill/>
          </a:ln>
        </p:spPr>
        <p:txBody>
          <a:bodyPr anchor="t">
            <a:normAutofit fontScale="91000"/>
          </a:bodyPr>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ntinuous Innovation</a:t>
            </a:r>
            <a:endParaRPr b="0" lang="en-US" sz="24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product but we use it in the same way</a:t>
            </a:r>
            <a:endParaRPr b="0" lang="en-US" sz="22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ynamically 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is type of innovation entails an evolution in the product and its use.  Very few changes in usage methods are required.  Eg. If you can drive a modern vehicle you can also drive a vehicle from the 1940’s</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is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ere new usage methods must be learned as the product changes.  Eg. the use of DOS is different than the use of  Windows.  This is the more challenging method for consumers to learn and the riskier method for manufacturers to choose.</a:t>
            </a:r>
            <a:endParaRPr b="0" lang="en-US" sz="2400" spc="-1" strike="noStrike">
              <a:solidFill>
                <a:srgbClr val="000000"/>
              </a:solidFill>
              <a:latin typeface="Constantia"/>
            </a:endParaRPr>
          </a:p>
        </p:txBody>
      </p:sp>
      <p:sp>
        <p:nvSpPr>
          <p:cNvPr id="23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ACA3-E3D9-4E4B-B946-702A5F64E3F8}" type="datetime">
              <a:rPr b="0" lang="en-US" sz="1200" spc="-1" strike="noStrike">
                <a:solidFill>
                  <a:srgbClr val="045c75"/>
                </a:solidFill>
                <a:latin typeface="Verdana"/>
              </a:rPr>
              <a:t>07/30/26</a:t>
            </a:fld>
            <a:endParaRPr b="0" lang="en-US" sz="1200" spc="-1" strike="noStrike">
              <a:solidFill>
                <a:srgbClr val="000000"/>
              </a:solidFill>
              <a:latin typeface="Verdana"/>
            </a:endParaRPr>
          </a:p>
        </p:txBody>
      </p:sp>
      <p:sp>
        <p:nvSpPr>
          <p:cNvPr id="2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1E1D-BBFD-43F9-8977-F83077B451F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1T13:26:36Z</dcterms:created>
  <dc:creator>Debbie Vincent</dc:creator>
  <dc:description/>
  <dc:language>en-US</dc:language>
  <cp:lastModifiedBy>Tilley, Paul (C'ville)</cp:lastModifiedBy>
  <cp:lastPrinted>1999-01-11T14:38:56Z</cp:lastPrinted>
  <dcterms:modified xsi:type="dcterms:W3CDTF">2015-01-08T16:03:50Z</dcterms:modified>
  <cp:revision>26</cp:revision>
  <dc:subject/>
  <dc:title>Chapter 11 Developing New Produc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